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19600" y="0"/>
            <a:ext cx="2977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90936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915840" y="4724280"/>
            <a:ext cx="49658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9447120"/>
            <a:ext cx="297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19600" y="9447120"/>
            <a:ext cx="297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F6D7-92CF-49EF-A4F7-7C7949B6CCC2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19600" y="9447120"/>
            <a:ext cx="297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1245-DF45-4761-A15A-C5FA009D3BD1}" type="slidenum">
              <a:rPr b="0" lang="cs-CZ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53B2-BC24-44A9-A6CC-7B22BA3F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B98-7461-410E-B8ED-B2130048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3E9D-D24F-4649-9A1C-22E35F93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77AB-BEEA-49E4-BF32-5885A896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ED44-5481-4CE8-8F4C-205030D5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F343-A5BB-4CDA-87B1-DC2DA1D0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D92B-BBDB-4A09-9740-B13588DF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2CED-79BF-4DA4-B3B2-83A6F25A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B89A-F6B4-4739-88B2-8509D930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A648-EB36-48F3-B847-5694428D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9E1A-E18F-453F-B3DF-82560D5E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9C1C-E4C3-4A38-9B8A-CBCF5CAB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4984-0866-4268-8170-F98001D7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FDDD-B58D-4D45-A226-1BC14D27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7856-C92C-46A7-A6EA-71E90982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4FFC-352D-4F84-9F10-AC2FE700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938D-3203-41F3-A9DE-86092867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E239-5880-4ECB-87AE-F07A3AC5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C2E-1187-4CFD-A5E9-132C1449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C0E-AE52-41E2-BB9D-1A1966B8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0A3-CACA-4186-822C-8B42EBC4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896-9E66-45E9-A568-C84F1CFC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F57-6181-4976-93AF-7C957FD9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068E-AA29-4903-B504-9923A841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59CF-9B05-4B7C-B065-D447E0DD5554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754D-4E97-4B59-A5DB-84B912B4E5F4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Object 1026"/>
          <p:cNvGraphicFramePr/>
          <p:nvPr/>
        </p:nvGraphicFramePr>
        <p:xfrm>
          <a:off x="1219320" y="0"/>
          <a:ext cx="658656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0"/>
                    <a:ext cx="658656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AutoShape 1027"/>
          <p:cNvSpPr/>
          <p:nvPr/>
        </p:nvSpPr>
        <p:spPr>
          <a:xfrm>
            <a:off x="457200" y="1143000"/>
            <a:ext cx="8458200" cy="50292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ffffff"/>
                </a:solidFill>
                <a:latin typeface="Times New Roman"/>
              </a:rPr>
              <a:t>Právní vědomí pro zajištění udržitelnosti projektů podpořených a podporovatelných v rámci PRV, osy III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ffff"/>
                </a:solidFill>
                <a:latin typeface="Times New Roman"/>
              </a:rPr>
              <a:t>České Budějovice 14.10.2011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ffffff"/>
                </a:solidFill>
                <a:latin typeface="Times New Roman"/>
              </a:rPr>
              <a:t>Mgr. Michal Jarolímek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Jihočeská univerzita v Českých Budějovicích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7315200" y="152280"/>
            <a:ext cx="1604880" cy="649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917280" cy="6127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152280" y="4572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cs-CZ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Evropský zemědělský fond pro rozvoj venkova: Evropa investuje do venkovských oblast</a:t>
            </a:r>
            <a:r>
              <a:rPr b="1" lang="cs-CZ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í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vestiční výdaj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- musí splňovat podmínky pro klasifikaci hmotného a nehmotného majetku dle zákona č. 586/1992 Sb., tzn. jedná se o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1. samostatné movité věci (případně soubory movitých věcí), jejichž vstupní cena je vyšší než 40.000,- Kč a mají provozně -technické funkce delší než jeden ro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2. budov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3. stavb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4. pěstitelské celky trvalých porostů s dobou plodnosti delší než tři rok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5. jiný majetek, zejména technické zhodnoce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6. předměty z práv průmyslového vlastnictví, projekty a programové vybavení a jiné technické nebo jiné hospodářsk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užitelné znalosti, pokud je vstupní cena jednotlivého majetk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šší než 60.000,- Kč a doba jeho použitelnosti vyšší než jed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o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V – základní poj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395280" y="1197000"/>
            <a:ext cx="84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ěcné plnění –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forma realizace části projektu, kdy žadatel přispívá vlastní prací, poskytnutím materiál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opř. jiného vybavení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orekce („K“)“ –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nížení částky dotace na základě prověření způsobilých výdajů žádosti o proplacení v rámci tzv. autorizace plateb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kud je na základě kontroly zjištěn rozdíl mezi částkou uvedenou v žádosti o proplacení a částkou, která má být příjemci vyplacena po přezkoumání způsobilosti žádosti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a) do 3% je příjemci vyplacena částka odpovídající způsobilým výdajům po přezkoumání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b) o více než 3%, je příjemci zjištěná částka po přezkoumání snížena ještě o sankci odpovídající rozdílu mezi částkou požadovanou a zjištěnou částkou po přezkoumání způsobilosti výdajů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V – základní poj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395280" y="1197000"/>
            <a:ext cx="84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1098720"/>
            <a:ext cx="91440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ankční systém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– postupy pro snížení částky dotace, případně vratky, pokud je zjištěno nedodržení podmínek pro poskytnutí dotace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, B, C, D“ – kategorie sankce. Za každou podmínkou, která stanovuje žadateli povinnost, je uvedena kategorie sankce za porušení / nedodržení této povinnosti, a to příslušným písmen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A – 10% částky dotace po přezkoumání způsobilosti žádosti o proplace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B – 50% částky dotace po přezkoumání způsobilosti žádosti o proplace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C –100% (před proplacením finančních prostředků na účet příjemce dotace se jedná o ukončení administrace žádosti, p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roplacení finančních prostředků na účet příjemce dotace se jedná o vymáhání dlužné částk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 – splnění nápravného opatření uloženého ze strany SZIF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V – základní poj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395280" y="907920"/>
            <a:ext cx="84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V – základní poj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eřejná podpo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1) P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odpora je poskytnutá z veřejných prostředků – do těchto prostředků spadají i prostředky evropských fondů, proto při poskytování podpory z tohoto programu je tento bod splněn vžd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2) Udělení podpory narušuje nebo hrozí narušením hospodářské soutěže – pokud podpora zvýhodňuje nebo potenciálně zvýhodní jakoukoliv ekonomickou činnost, tedy nabídku zboží nebo služeb na trhu, pak je naplněn i tento bo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3) Podpora je selektivní, zvýhodňuje určité podniky nebo odvětví výroby – pokud podpora zvýhodňuje konkrétního podnikatele nebo skupinu podnikatelů a nejedná se o obecné opatření přinášející výhodu vše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4) Podpora ovlivní obchod mezi členskými státy – pokud se jedná o podporu ekonomické činnosti, vždy existuje možnost, že bude ovlivněn podnikatel z jiného členského státu. Na základě rozhodovací praxe Komise lze u projektů, které jsou pouze lokálního, místního významu tento přeshraniční efekt vyloučit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5280" y="1052640"/>
            <a:ext cx="84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1098720"/>
            <a:ext cx="91440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ontaktním místem pro žadatele/příjemce dotace pro předkládání veškeré dokumentace je příslušné RO SZIF podle místa realizace projek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Žadatel zabezpečuje financování realizace projektu nejprve z vlastních zdrojů (není-li ve specifické části Pravidel uvedeno jinak)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Žadatel je povinen zajistit realizaci projektu a úhradu způsobilých výdajů do 24 resp. 36 měsíců od podpisu Dohody (dle specifické části Pravidel);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Verdana"/>
              </a:rPr>
              <a:t>C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V – obecné ustanove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395280" y="907920"/>
            <a:ext cx="84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 případě nedodržení čestného prohlášení, a to v jakékoliv fázi realizace projektu, že na projekt není dle záko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č. 183/2006 Sb., o územním plánování a stavebním řádu (stavební zákon), ve znění pozdějších předpisů, třeba stavební povolení ani ohlášení stavby, bude ukončena administrace žádosti o dotaci; C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V – obecné ustanove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395280" y="907920"/>
            <a:ext cx="84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1098720"/>
            <a:ext cx="91440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oučástí žádosti o dotaci, není-li ve specifické části Pravidel uvedeno jinak, je projekt a povinné, příp. nepovinné přílohy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Žádost o dotaci předkládá a podepisuje žadatel před pracovníkem RO SZIF osobn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ed registrací žádosti o dotaci je provedena předběžná administrativní kontrola (úplnost dokumentace). Neúplná žádost o dotaci nebude zaregistrována a žadatel bude o této skutečnosti a jejích důvodech informován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V – žádost o dotac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395280" y="907920"/>
            <a:ext cx="84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1098720"/>
            <a:ext cx="91440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ásledně RO SZIF provede úplnou administrativní kontrolu žádosti o dotaci. V případě zjištění nedostatků vyzve do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Verdana"/>
              </a:rPr>
              <a:t>42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kalendářních dnů od zaregistrování žádosti žadatele k tomu, aby provedl odstranění uvedených konkrétních závad. Nedojde-li k odstranění závad žádosti o dotaci do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Verdana"/>
              </a:rPr>
              <a:t>21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kalendářních dn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= ukončení administrace žádosti o dotac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odnocení přijatel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odové hodnocení pomocí preferenčních kritéri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V – žádost o dotac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95280" y="907920"/>
            <a:ext cx="84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1098720"/>
            <a:ext cx="91440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působilé výdaje jsou realizovány/vynaloženy následující formou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. bezhotovostní platbou - příjemce dotace je povinen realizovat finanční operace související s financováním způsobilých výdajů projektu prostřednictvím vlastního bankovního úč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2. hotovostní platbou - maximální výše způsobilých výdajů realizovaných v hotovosti v rámci jednoho projektu může být 100 000 K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3. věcným plněním ze strany žadatele/příjemce dotace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V – způsobilé výda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395280" y="907920"/>
            <a:ext cx="84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91440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působilé výdaje jsou realizovány z hlediska času následovně, pokud není ve specifické části uvedeno jinak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1. od 1.1.2007 do data předložení žádosti o proplacení - výdaje nutné k přípravě projektu (podnikatelský záměr, marketingová studie apod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2. od 1.1.2007 do data předložení žádosti o proplacení - výdaje spojené s nákupem nemovit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3. od zaregistrování žádosti o dotaci do data předložení žádosti o proplacení – ostatní výdaje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V – způsobilé výda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Line 4"/>
          <p:cNvSpPr/>
          <p:nvPr/>
        </p:nvSpPr>
        <p:spPr>
          <a:xfrm>
            <a:off x="395280" y="907920"/>
            <a:ext cx="84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ogram seminář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vropský kontex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truktura pravidel PR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perační programy, dotační tituly a možnosti čerpání zdroj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Formy věcného plnění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skytnutí vybav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skytnutí surov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tavební práce a dobrovolná neplacená činnos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ximální výše věcného plnění odpovíd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částce způsobilých výdajů, tj. částce, 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teré je stanovena dotace, od které by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ečtena dota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V – způsobilé výda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395280" y="907920"/>
            <a:ext cx="84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1) Změny, které nelze provést bez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Verdana"/>
              </a:rPr>
              <a:t>předchozího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souhlas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O SZI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2) Změny, které nelze provést bez souhlasu RO SZI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3) Ostatní změny, které lze provést bez souhlasu RO SZIF, ale žadatel/příjemce dotace je povinen změnu oznámit příslušnému RO SZIF na předepsaném formuláři Hlášení o změnách, a to nejpozději v den předložení žádosti o proplacení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4) Změny, které lze provést bez souhlasu RO SZIF, ale příjemce dotace je povinen je zaznamenat na formuláři žádosti o proplacení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V – provádění změ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Line 4"/>
          <p:cNvSpPr/>
          <p:nvPr/>
        </p:nvSpPr>
        <p:spPr>
          <a:xfrm>
            <a:off x="395280" y="907920"/>
            <a:ext cx="84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Žadatel/příjemce dotace, který je veřejným, nebo dotovaným nebo sektorovým zadavatelem podle zákona č. 137/2006 Sb., o veřejných zakázkách, ve znění pozdějších předpisů, postupuje podle tohoto zákona, tj. zodpovídá za řádné provedení zadávacího řízení a jeho průběh náležitě dokladuje podle tohoto zákona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kud předpokládaná hodnota zakázky podle osnovy projektu nepřesáhne 500.000,- Kč (bez DPH)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emusí žadatel/příjemce dotace uskutečňovat výběr z více dodavatelů, ale může zadat zakázku a uzavří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mlouvu nebo vystavit objednávku přímo s jedním dodavatelem při dodržení zásady transparentnosti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ovného zacházení a zákazu diskriminac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V – zadávání zakáz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395280" y="907920"/>
            <a:ext cx="84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kud předpokládaná hodnota zakázky podle osnovy projektu přesáhne 500.000,- Kč (bez DPH), je žadatel/příjemce dotace povinen uskutečnit zadávací řízení, vybrat dodavatele z minimálně tří obdržených nabídek a průběh zadávacího řízení náležitě dokladova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Žadatel/příjemce dotace je povinen v rámci realizace schváleného projektu uzavírat smlouvy s dodavatel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boží, práce a služeb v písemné podobě. V případě, že hodnota zakázky nepřesáhne výši 500 000,- Kč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ůže být smlouva nahrazena objednávkou potvrzenou dodavatelem.V případě platby v hotovosti do 100 000 Kč může být smlouva nahrazena objednávkou vystavenou žadatelem/příjemcem dotac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V – zadávání zakáz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395280" y="907920"/>
            <a:ext cx="84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V – Specifické podmín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) Popis opatření/podopatř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2) Zámě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3) Definice příjemce dot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) Druh a výše dot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5) Způsobilé výda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6) Nezpůsobilé výda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7) Formy financová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8) Kritéria přijatel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395280" y="1197000"/>
            <a:ext cx="84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V – Specifické podmín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9) Další podmín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0) Seznam přílo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.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vinné přílohy předkládané při podání žádosti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o dota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b. Nepovinné přílohy předkládané při podání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žádosti o dotaci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.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vinné přílohy předkládané při podpisu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Dohod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. Povinné přílohy předkládané při podání žádosti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o proplacení výdaj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95280" y="1197000"/>
            <a:ext cx="84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V – Specifické podmín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1) Seznam příloh Pravi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apa regionů NUTS 2 a adresy RO SZI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snova projekt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eferenční krité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Číselník způsobilých výdaj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ávazný přehled maximálních hodnot některých způsobilých výdaj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ůměrná roční míra nezaměstnanosti v obcích s rozšířenou působnost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Čestné prohlášení žadate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Jak poznat veřejnou podpor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tanovisko MŽP k poskytnutí dotace z PRV, které vydává příslušné krajské středisko AOP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Čestné prohlášení žadatele při podpisu Dohody o poskytnutí dot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Line 4"/>
          <p:cNvSpPr/>
          <p:nvPr/>
        </p:nvSpPr>
        <p:spPr>
          <a:xfrm>
            <a:off x="395280" y="1197000"/>
            <a:ext cx="84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Děkuji za pozornos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917280" cy="6127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4"/>
          <p:cNvSpPr/>
          <p:nvPr/>
        </p:nvSpPr>
        <p:spPr>
          <a:xfrm>
            <a:off x="0" y="4572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cs-CZ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Evropský zemědělský fond pro rozvoj venkova: Evropa investuje do venkovských oblast</a:t>
            </a:r>
            <a:r>
              <a:rPr b="1" lang="cs-CZ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í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7315200" y="152280"/>
            <a:ext cx="16048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Finanční nástroj politiky soudržnosti </a:t>
            </a:r>
            <a:br>
              <a:rPr sz="4400"/>
            </a:b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– strukturální fond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íspěvky členských stá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Wingdings 3"/>
                <a:ea typeface="Wingdings 3"/>
              </a:rPr>
              <a:t>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Rozpočet E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Wingdings 3"/>
                <a:ea typeface="Wingdings 3"/>
              </a:rPr>
              <a:t>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trukturální fond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Wingdings 3"/>
                <a:ea typeface="Wingdings 3"/>
              </a:rPr>
              <a:t>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árodní (regionální) orgán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Wingdings 3"/>
                <a:ea typeface="Wingdings 3"/>
              </a:rPr>
              <a:t>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neční příjemci + koneční uživatel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Strukturální a další fond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1) Evropský fond pro regionální rozvoj (ERDF)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odporovány jsou infrastrukturní projek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2) Evropský sociální fond (ESF):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odporovány jsou neinfrastrukturní projek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3) Fond soudržnosti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(FS)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je na rozdíl od strukturálních fond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určený na podporu rozvoje chudších 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států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, nikoli regionů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odobně jako u ERDF jsou z něj podporovány infrastrukturní   projekty, avšak jen se zaměřením na dopravní infrastrukturu většího rozsahu a ochranu životního prostřed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4) </a:t>
            </a: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Evropský zemědělský fond pro rozvoj venkova (EAFR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5) Evropský rybářský fond (EFF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Operační progra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trategické obecné zásady Společenstv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árodní strategický referenční ráme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perační program X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ioritní o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blast podpo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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Projek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89308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ccecff"/>
                </a:solidFill>
                <a:latin typeface="Arial"/>
              </a:rPr>
              <a:t>Program rozvoje venkova </a:t>
            </a:r>
            <a:br>
              <a:rPr sz="5400"/>
            </a:br>
            <a:r>
              <a:rPr b="0" lang="cs-CZ" sz="5400" spc="-1" strike="noStrike">
                <a:solidFill>
                  <a:srgbClr val="ccecff"/>
                </a:solidFill>
                <a:latin typeface="Arial"/>
              </a:rPr>
              <a:t>– pravidla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95280" y="2565360"/>
            <a:ext cx="83534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A. Obecné podmín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o poskytnutí dotace na základě Programu rozvoje venko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. Specifické podmín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o poskytnutí dotace v rámci konkrétního opatření/podopatře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V – obecné podmín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. Základní pojmy a zkrat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2. Osy, priority, opatření/podopatř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3. Obecná ustanovení pro poskytnutí dot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. Žadatel/příjem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5. Žádost o dota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6. Dohoda o poskytnutí dot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7. Způsobilé výdaje, věcné plnění,leas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8. Provádění změ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9. Zadávání zakázek příjemcem dot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395280" y="1197000"/>
            <a:ext cx="84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V – obecné podmínk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0. Žádost o proplacení výdajů projekt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1. Kontroly žadatelů a příjemc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2. Způsob účtování o poskytnuté dota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13. Snížení částky dotace - sank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395280" y="1197000"/>
            <a:ext cx="84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působilý výdaj -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ýdaj/náklad, na který může být z daného opatření/podopatření/záměru poskytnu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otace a který byl specifikován v žádosti o dotaci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o některé způsobilé výdaje nebo pro jejich skupiny jsou stanoveny maximální hodnoty způsobilých výdajů (limity). V takovém případě se částka dotace vypočítává z těchto limit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Lhůta vázanosti na účel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“ –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oba trvání závazku, uvedená ve specifické části Pravidel, resp. v Dohodě, po kterou je příjemce dotace povinen splňovat účel projektu a dodržovat specifické podmínky z Dohody. Lhůta vázan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a účel začíná běžet od data podpisu dohody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V – základní poj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395280" y="1197000"/>
            <a:ext cx="849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04:33:47Z</dcterms:created>
  <dc:creator>PC</dc:creator>
  <dc:description/>
  <dc:language>en-US</dc:language>
  <cp:lastModifiedBy>michal</cp:lastModifiedBy>
  <dcterms:modified xsi:type="dcterms:W3CDTF">2012-04-25T05:40:42Z</dcterms:modified>
  <cp:revision>25</cp:revision>
  <dc:subject/>
  <dc:title>Program rozvoje venkova  – pravidla</dc:title>
</cp:coreProperties>
</file>