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FC36-CE9D-406B-8B41-2056B3E8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35C-41C5-4704-BDF3-BAE5315F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887-EEB3-411D-8879-ECABFBA5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B81-45C9-4E49-BDE8-1FE2D4B0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6B87-1E9B-4E17-9686-6F415EB1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38AB-0071-4BA0-BB6F-B173B41A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E116-40C4-4E7A-9B02-0D149ADD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F18D-4875-42CF-800F-E5E93908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3D4B-FBF0-4F0E-821A-6FF764CB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FE67-3E49-4191-9E47-E2034839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651E-312F-4D39-A6DC-49D2E594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A597-87CC-4843-93DE-CB9A0C03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6127-F972-466E-A876-8C356904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3A1A-FFBE-4D9D-B73F-8CAD2B6E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17AE-1D6A-40EB-8AF2-338DA43B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7FC1-40F1-42F0-8303-2CFDD123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5EBF-9A86-4E51-A309-98458530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269A-208A-4373-BDAF-8BA39F78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EE30-5E3A-42B9-8AB1-7BF0DCD4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C06-8FAF-45F5-AB53-D9DF9906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348-37DE-4082-A587-74E49672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6768-2AEE-4ECF-A96D-F7775A2D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577-87AE-4D95-8A4C-C849C689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328-015D-4312-9944-6FB99CCD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CEF7-0240-429A-9001-8B2145F53C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D8E7-46EF-4532-9473-3F203AC1C6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252360" y="3284640"/>
            <a:ext cx="8569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České Budějovice 18.11.20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Mgr. Michal Jarolím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Jihočeská univerzita v Českých Budějovicí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01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ffffff"/>
                </a:solidFill>
                <a:latin typeface="Times New Roman"/>
              </a:rPr>
              <a:t>Rozvoj finanční kapacity  </a:t>
            </a:r>
            <a:br>
              <a:rPr sz="4400"/>
            </a:br>
            <a:r>
              <a:rPr b="1" i="1" lang="cs-CZ" sz="4400" spc="-1" strike="noStrike">
                <a:solidFill>
                  <a:srgbClr val="ffffff"/>
                </a:solidFill>
                <a:latin typeface="Times New Roman"/>
              </a:rPr>
              <a:t>- vlastní činnost příjem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EU-logo"/>
          <p:cNvPicPr/>
          <p:nvPr/>
        </p:nvPicPr>
        <p:blipFill>
          <a:blip r:embed="rId1"/>
          <a:stretch/>
        </p:blipFill>
        <p:spPr>
          <a:xfrm>
            <a:off x="228600" y="152280"/>
            <a:ext cx="1152360" cy="790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6934320" y="152280"/>
            <a:ext cx="2057400" cy="8305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0" y="5335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cs-CZ" sz="1000" spc="-1" strike="noStrike">
                <a:solidFill>
                  <a:srgbClr val="ffffff"/>
                </a:solidFill>
                <a:latin typeface="Arial"/>
                <a:ea typeface="Arial"/>
              </a:rPr>
              <a:t>Evropský zemědělský fond pro rozvoj venkova: Evropa investuje do venkovských oblast</a:t>
            </a:r>
            <a:r>
              <a:rPr b="1" lang="cs-CZ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í</a:t>
            </a:r>
            <a:r>
              <a:rPr b="0" lang="cs-CZ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Hlavní a hospodářské činnosti N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efinice uvedená v zákoně o daních z příjmů uvozuje subjekty, které nebyly zřízeny za účelem podnikání, ale z tohoto nevyplývá všeobecný zákaz  podnikání jako takové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ůžeme konstatovat, že se nejedná o zcela systémově dořešenou záležitost z důvodu nevyjasněnosti hranice mezi rozsahem hlavní a hospodářské činnosti, především jejich vzájemného poměr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Hlavní a hospodářské činnosti N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evažuje-li obratem hospodářská činnost, můžeme zvažovat, zda se jedná stále ještě o subjekt založený k jiným účelům, než je podnikán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etrvává nepřesné určení hranice mezi činnostmi charakterizovanými jako hlavní, doplňkové a hospodářské v příslušných zákonech, tuto nepřesnost v praxi vyřešily účetní předpisy, které vše kromě hlavní činnosti řadí mezi hospodářskou činn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espoň pro účely účetnictví je hlavní činností vše, co je definováno ve zřizovacích listinách, statutech nebo stanová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jmové sdružení právnických osob                ( s právní sujektivitou, dle zákona č.40/1964 Sb., §20f a ná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á-li být toto sdružení ( de facto korporace) považováno za NNO, musí být založeno za jiným účelem, než je dosahování výdělečné činnos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působ založení: písemná zakladatelská smlouva, schválení účelu na ustavující členské schůz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ávní způsobilost: zápis do registru sdružení, který vede krajský úřad místně příslušn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kumentace: viz. založení, dále : stanov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ájmové sdružení právnických osob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 zákon č.40/1964 Sb., §20f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ospodaření se řídí výhradně stanovami a obecně platnými právními předpi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učení za závazky sdružení: za nesplnění závazků odpovídá sdružení svým majetkem, nikoli majetkem zakladatelů nebo člen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ba trvání organizace: dle povahy, možno založit také na dobu určitou nebo k dosažení určitého cí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rušení: formou likvidace, společnost zaniká výmaz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bčanské sdružení ( podle zákona č.83/1990 Sb., o sdružování občanů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le tohoto zákona se mohou občané svobodně sdružovat bez povolení státního orgánu – tento zákon se nevztahuje na sdružování občanů k výdělečné činnosti nebo k zajištění řádného výkonu určitých povolání. Členy mohou být fyzické i právnické osob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působ založení: návrh na registraci stanov ( nejméně 3 občané, alespoň 1 starší 18 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ávní způsobilost: registrace MV ČR ( automaticky: evidence ČS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Dokumentace: stanov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bčanské sdružení (zákon č.83/1990 Sb.,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rioritně se předpokládá, že se OS zakládá k uspokojování zájmů svých členů a občanů v jejich okolí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Členská základna je velmi specifickým znakem OS, členové nemají postavení zaměstnanců ( problematické z hlediska odměňování, doporučeno řešit stanovami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bčanské sdružení (zákon č.83/1990 Sb.,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ospodaření se řídí obecně platnými právními předpisy a vše, co není právně upraveno, je nutné zakotvit do stano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rušení: není upraveno zvláštním zákonem, postup dle §20 Občan.zák – odkaz na likvidaci dle obchod. Zákonálu ( např. zaké povinnost zveřejnění v Obchodním věstníku,…). Doporučeno: řešit ve stanová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Obecně prospěšné společnosti ( zákon č. 248/1995 Sb., o obecně prospěšných společnoste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.P.S. je právnickou osobou,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je založena za účelem poskytování obecně prospěšných služeb za předem stanovených a pro všechny uživatele stejných podmín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sledek hospodaření nesmí být použit ve prospěch ani zakladatelů, ani zaměstnanců o.p.s., ale musí být použit na poskytování služeb,pro které byla společnost zříz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sledek hospodaření vždy převádí celý do rezervního fon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becně prospěšné společnosti ( zákon č. 248/1995 Sb., o obecně prospěšných společnoste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působ založení: společnost vzniká sepsáním zakladatelské smlouvy, zakladateli mohou být fyzické i právnické osoby, také stá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ávní způsobilost: zápis do rejstříku obecně prospěšných společností, který vede příslušný  soud ( obdobně O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becně prospěšné společnosti ( zákon č. 248/1995 Sb., o obecně prospěšných společnoste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.P.S. může kromě hlavních služeb provozovat i činnost doplňkovou nebo hospodářskou za splnění platných právních podmínek, nesmí se však účastnit na podnikání jiných os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.P.S. odděleně sleduje náklady vynaložené k dosažení obecně prospěšného cíle, náklady na doplňkovou činnost, popř. činnost hospodářskou, náklady na správu a náklady a výnosy nepatřící do dříve uvedeného členěn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eřejné = Dotace, granty, příspěv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lastní = Výdělečná činnost organ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ukromé = Dary, sponzoring – fundra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věry a půjčky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ffffff"/>
                </a:solidFill>
                <a:latin typeface="Times New Roman"/>
              </a:rPr>
              <a:t>Rozvoj finanční kapacity - zdro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6"/>
          <p:cNvSpPr/>
          <p:nvPr/>
        </p:nvSpPr>
        <p:spPr>
          <a:xfrm>
            <a:off x="611280" y="141300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becně prospěšné společnosti ( zákon č. 248/1995 Sb., o obecně prospěšných společnoste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nik: zrušením s likvidací, nebo bez likvidace dnem výmazu z rejstříku. Dále: uplynutím doby nebo účelu stanoveného při vzniku, rozhodnutím správní rady nebo soudu, prohlášením konkurz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i likvidaci se prodá jen tolik majetku, aby výtěžek pokryl závazky, zbytek se převede na jinou o.p.s. ( je-li taková vybrána a schválena ve statutu) nebo na ob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Tvorba rozpočtu organiz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Lucida Sans"/>
              </a:rPr>
              <a:t>definice rozpočtů, druhy rozpoč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292120" y="285264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TYPOLOGIE ROZPOČT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652400" y="3716280"/>
            <a:ext cx="56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JAKÝ ROZPOČET JE NEJLEPŠÍ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Tvorba rozpočtu organiz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Lucida Sans"/>
              </a:rPr>
              <a:t>specifika rozpočtu neziskové organiz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920160" y="3505320"/>
            <a:ext cx="715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ZAPOJENÍ PROJEKTOVÝCH ROZPOČTŮ</a:t>
            </a:r>
            <a:br>
              <a:rPr sz="2800"/>
            </a:b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DO ROZPOČTU ORGANIZ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Tvorba rozpočtu organiz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Lucida Sans"/>
              </a:rPr>
              <a:t>příjmová a výdajová stránka rozpoč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372760" y="2852640"/>
            <a:ext cx="26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AKTUÁL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112200" y="3573360"/>
            <a:ext cx="26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OBJEKTIV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218840" y="4365720"/>
            <a:ext cx="21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ÚČEL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Tvorba rozpočtu organiz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Lucida Sans"/>
              </a:rPr>
              <a:t>schvalování rozpoč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604240" y="2924280"/>
            <a:ext cx="43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POSTUP SCHVAL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194840" y="3716280"/>
            <a:ext cx="754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PROBLÉMY SE SCHVALOVÁNÍ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– </a:t>
            </a: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IDENTIFIKACE KLÍČOVÝCH PROBLÉM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Tvorba rozpočtu organiz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Lucida Sans"/>
              </a:rPr>
              <a:t>kontrola a úpravy rozpoč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60320" y="2781360"/>
            <a:ext cx="77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CHYBA vs. NEPŘEDVÍDATELNÁ OKOL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490840" y="3645000"/>
            <a:ext cx="444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NESTABILNÍ ROZPOČET</a:t>
            </a:r>
            <a:br>
              <a:rPr sz="2800"/>
            </a:b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= ZAČÁTEK KO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Tvorba rozpočtu organiz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Lucida Sans"/>
              </a:rPr>
              <a:t>rozpočtový výh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892880" y="342900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66"/>
                </a:solidFill>
                <a:latin typeface="Times New Roman"/>
              </a:rPr>
              <a:t>ROZPOČTOVÉ PLÁN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Tvorba rozpočtu organiz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Lucida Sans"/>
              </a:rPr>
              <a:t>cvičení – 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Lucida Sans"/>
              </a:rPr>
              <a:t>cvičný rozpočet 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324000" y="1295280"/>
            <a:ext cx="88200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Děkuji Vám za pozorno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Mgr. Michal Jarolíme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Jihočeská univerzita v Českých Budějovicí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3" descr="EU-logo"/>
          <p:cNvPicPr/>
          <p:nvPr/>
        </p:nvPicPr>
        <p:blipFill>
          <a:blip r:embed="rId1"/>
          <a:stretch/>
        </p:blipFill>
        <p:spPr>
          <a:xfrm>
            <a:off x="228600" y="152280"/>
            <a:ext cx="1152360" cy="7905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0" y="5335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cs-CZ" sz="1000" spc="-1" strike="noStrike">
                <a:solidFill>
                  <a:srgbClr val="ffffff"/>
                </a:solidFill>
                <a:latin typeface="Arial"/>
                <a:ea typeface="Arial"/>
              </a:rPr>
              <a:t>Evropský zemědělský fond pro rozvoj venkova: Evropa investuje do venkovských oblast</a:t>
            </a:r>
            <a:r>
              <a:rPr b="1" lang="cs-CZ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í</a:t>
            </a:r>
            <a:r>
              <a:rPr b="0" lang="cs-CZ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6934320" y="152280"/>
            <a:ext cx="2057400" cy="8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NNO – výklad pojm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isková organizace je pojem, který je obecně užíván, aniž by byl definován nějakým platným právním předpisem v České republ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NNO – výklad pojm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určité míře se o neziskových organizacích hromadně zmiňuje zákon o daních z příjmů, aniž by zde byl tento pojem výslovně uveden a blíže vysvětlen, vyjmenovává však jejich výčet a definuje v  podstatě všechny subjekty jako jednu skupinu ( s výjimkou VŠ s jiným daňovým režime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NNO – výklad pojm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yní je tato kategorie organizací označována jako subjekty, u nichž hlavním předmětem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činnosti není podnik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nebyly za tímto účelem založeny či zříze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to organizace, o jejichž činnost je jiný zájem, např. státu, společnosti nebo určité skupiny lid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NNO – výklad pojm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NO jso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aloženy za účelem provozování činnosti ve prospěch toho, kdo měl zájem na jejich zřízen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zde kladen větší důraz na důležitost výsledků hlavního poslání, přičemž výše příjmů z něj stojí obvykle až na druhém místě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organizace nemusí být vždy nutně neziskové, i když nejsou zřízeny proto, aby zisku dosahova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NNO – právní zákl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NO jsou právnické osoby, mají svého zřizovatele či zakladatele, zakládají se podle různých právních předpisů a podléhají registraci na místech určených jim zákonem, podle kterého jsou zřízen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NO jsou také vedeny v seznamu ekonomických subjektů, který vede Český statistický úřad, a mají přiděleno identifikační čís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NO jsou povinovány registrací u místně příslušného FÚ pro účely dan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NNO – právní zákl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ladní rozdělení právnických osob je uvedeno v § 18 občanského zákoník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o daních z příjmů uvádí výčet těchto subjektů v § 18 odst. 8, výčet je uvozen slůvkem „ zejména“, nejedná se tedy o výčet vyčerpávajíc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chodní zákoník v §56 dovoluje, aby i společnosti s ručením omezeným a akciové společnosti byly založeny i za jiným účelem, než podnikání, pokud to zvláštní zákon nezakazu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NNO – právní zákl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 toho vyplývá, že i tyto dva druhy společností mohou být založeny k výkonu činností, které jsou svým charakterem považovány za neziskové, avšak současná úprava zákona §18 zákona o daních z příjmů takto založené obchodní společnosti nepovažuje za subjekty neziskové, a nemohou tedy využít výhody odpočtu 30% z daňového základu jako jiné neziskové organizace, na druhé straně jsou zbaveny povinnosti sledovat hlavní činnosti podle jednotlivých druh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7:57:40Z</dcterms:created>
  <dc:creator>sedova</dc:creator>
  <dc:description/>
  <dc:language>en-US</dc:language>
  <cp:lastModifiedBy>michal</cp:lastModifiedBy>
  <dcterms:modified xsi:type="dcterms:W3CDTF">2012-04-25T05:43:26Z</dcterms:modified>
  <cp:revision>66</cp:revision>
  <dc:subject/>
  <dc:title>Prezentace aplikace PowerPoint</dc:title>
</cp:coreProperties>
</file>