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0D68-C413-440D-AB80-D2A6C15EF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E377-CCA4-46DD-B610-3E9A35D90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303C-0989-461F-8CAD-974B10AD9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923C-2257-4E5A-8BA2-E692C77A1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3FF8-E9D7-46CF-8D1A-237CF7E1B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306A-CBB0-481C-BDD6-BD2D50DA5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E344-E10D-4EE2-BF3B-BC8E6AEC5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2A1F-5618-4DF1-B1EC-2C0731C2A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97C3-B1D4-4F7D-9ADF-A1A7A3119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8107-F3CE-4AEA-BC55-F59EABAA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CAF8-CEE8-4640-9C26-E14404F80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56B1-AE8C-4A54-ACD4-937582A5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A780B-1B11-4019-89A0-04B59E98D7A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323640" y="3429000"/>
            <a:ext cx="856908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cs-CZ" sz="4000" spc="-1" strike="noStrike">
                <a:solidFill>
                  <a:srgbClr val="000000"/>
                </a:solidFill>
                <a:latin typeface="Times New Roman"/>
              </a:rPr>
              <a:t>České Budějovice 10.6.20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Mgr. Michal Jarolím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Jihočeská univerzita v Českých Budějovicí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01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755640" y="119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ffffff"/>
                </a:solidFill>
                <a:latin typeface="Times New Roman"/>
              </a:rPr>
              <a:t>Realizace a ukončení dotovaných projektů z PRV, zaměřených na priority osy I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917280" cy="612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"/>
          <p:cNvPicPr/>
          <p:nvPr/>
        </p:nvPicPr>
        <p:blipFill>
          <a:blip r:embed="rId2"/>
          <a:stretch/>
        </p:blipFill>
        <p:spPr>
          <a:xfrm>
            <a:off x="7315200" y="152280"/>
            <a:ext cx="1604880" cy="649440"/>
          </a:xfrm>
          <a:prstGeom prst="rect">
            <a:avLst/>
          </a:prstGeom>
          <a:ln w="0">
            <a:noFill/>
          </a:ln>
        </p:spPr>
      </p:pic>
      <p:sp>
        <p:nvSpPr>
          <p:cNvPr id="45" name="Obdélník 6"/>
          <p:cNvSpPr/>
          <p:nvPr/>
        </p:nvSpPr>
        <p:spPr>
          <a:xfrm>
            <a:off x="1258920" y="333360"/>
            <a:ext cx="597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Evropský zemědělský fond pro rozvoj venkova: Evropa investuje do venkovských oblast</a:t>
            </a:r>
            <a:r>
              <a:rPr b="1" lang="cs-CZ" sz="1000" spc="-1" strike="noStrike">
                <a:solidFill>
                  <a:srgbClr val="ffffff"/>
                </a:solidFill>
                <a:latin typeface="Verdana"/>
                <a:ea typeface="Times New Roman"/>
              </a:rPr>
              <a:t>í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3059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Times New Roman"/>
              </a:rPr>
              <a:t>Podmínky pro identifikaci projektového tématu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799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Č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2) Dostupnost objektivních informac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3) Odborná kapacit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4) Formulace problému a nalezení jeho příč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6"/>
          <p:cNvSpPr/>
          <p:nvPr/>
        </p:nvSpPr>
        <p:spPr>
          <a:xfrm>
            <a:off x="533520" y="1447920"/>
            <a:ext cx="815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457200" y="228600"/>
            <a:ext cx="8362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684360" y="333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Vyhledávání projektových témat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42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imes New Roman"/>
              </a:rPr>
              <a:t>Analýza potře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1) Inventarizace potřeb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601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- obec, mikroregion (svaze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601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- N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601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- podnikatel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2) Zjištění jejich příčin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(subjektivní x objektiv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3) Vyhodnocení a stanovení priori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4) Konfrontace priorit s cílovými skupinami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otencionálními oponenty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6"/>
          <p:cNvSpPr/>
          <p:nvPr/>
        </p:nvSpPr>
        <p:spPr>
          <a:xfrm>
            <a:off x="533520" y="1447920"/>
            <a:ext cx="815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684360" y="333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Vyhledávání projektových témat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23640" y="14130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-216000" algn="ctr">
              <a:spcBef>
                <a:spcPts val="901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imes New Roman"/>
              </a:rPr>
              <a:t>Hodnota projekt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 algn="ctr">
              <a:spcBef>
                <a:spcPts val="901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 algn="ctr">
              <a:spcBef>
                <a:spcPts val="799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ozdíl mezi stavem před realizací projektu a stavem po jeho realizac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spcBef>
                <a:spcPts val="799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Hodnotu lze posuzovat z hledisk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spcBef>
                <a:spcPts val="601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- přínosu pro žadate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spcBef>
                <a:spcPts val="601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- přínosu pro partn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spcBef>
                <a:spcPts val="601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- přínosu pro cílové skupi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spcBef>
                <a:spcPts val="601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- přínosu pro vyhlašovatele progra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spcBef>
                <a:spcPts val="799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spcBef>
                <a:spcPts val="9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6"/>
          <p:cNvSpPr/>
          <p:nvPr/>
        </p:nvSpPr>
        <p:spPr>
          <a:xfrm>
            <a:off x="533520" y="1447920"/>
            <a:ext cx="815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468360" y="476280"/>
            <a:ext cx="836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Zvyšování hodnoty projektu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23640" y="17002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 algn="ctr">
              <a:spcBef>
                <a:spcPts val="901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imes New Roman"/>
              </a:rPr>
              <a:t>Hodnota projekt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>
              <a:spcBef>
                <a:spcPts val="799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Hodnotu lze posuzovat v oblast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- finanč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- ekonomick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- sociál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- politick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>
              <a:spcBef>
                <a:spcPts val="9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3"/>
          <p:cNvSpPr/>
          <p:nvPr/>
        </p:nvSpPr>
        <p:spPr>
          <a:xfrm>
            <a:off x="533520" y="1447920"/>
            <a:ext cx="815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468360" y="476280"/>
            <a:ext cx="836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Zvyšování hodnoty projektu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1484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marL="191880" indent="-191880" algn="ctr">
              <a:spcBef>
                <a:spcPts val="901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imes New Roman"/>
              </a:rPr>
              <a:t>Jak na to 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918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1880" indent="-191880">
              <a:spcBef>
                <a:spcPts val="799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1) Seznámit se s prioritami vyhlašovatele progr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15800" indent="-159840">
              <a:spcBef>
                <a:spcPts val="675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ffffff"/>
                </a:solidFill>
                <a:latin typeface="Times New Roman"/>
              </a:rPr>
              <a:t>(znalost výběrových kritérií, konzultace s vyhlašovatelem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158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1880" indent="-191880">
              <a:spcBef>
                <a:spcPts val="799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2) Zapojit do přípravy zástupce cílové skupi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18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1880" indent="-191880">
              <a:spcBef>
                <a:spcPts val="799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3) Jednat s potencionálními oponen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18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1880" indent="-191880">
              <a:spcBef>
                <a:spcPts val="799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4) Vyvarovat se kultu příjem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18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1880" indent="-191880">
              <a:spcBef>
                <a:spcPts val="799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5) Být efektivní a finančně střízliv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1880" indent="-191880">
              <a:spcBef>
                <a:spcPts val="799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1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1880" indent="-191880">
              <a:spcBef>
                <a:spcPts val="9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91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3"/>
          <p:cNvSpPr/>
          <p:nvPr/>
        </p:nvSpPr>
        <p:spPr>
          <a:xfrm>
            <a:off x="533520" y="1447920"/>
            <a:ext cx="815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468360" y="476280"/>
            <a:ext cx="836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Zvyšování hodnoty projektu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3"/>
          <p:cNvSpPr/>
          <p:nvPr/>
        </p:nvSpPr>
        <p:spPr>
          <a:xfrm>
            <a:off x="533520" y="1447920"/>
            <a:ext cx="815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468360" y="620640"/>
            <a:ext cx="836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Plánování přípravy projektu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755280" y="1599840"/>
            <a:ext cx="8388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Formulace problé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2)   Studium nabídk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ktivity, které budou podporová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íra podpory (velikost projektů, kofinancování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působ podpory (zálohové, průběžné či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konečné platby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Line 3"/>
          <p:cNvSpPr/>
          <p:nvPr/>
        </p:nvSpPr>
        <p:spPr>
          <a:xfrm>
            <a:off x="533520" y="1447920"/>
            <a:ext cx="815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457200" y="228600"/>
            <a:ext cx="836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Plánování přípravy projektu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3)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Formulace projektových záměrů, kter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jsou potřebné a podporovateln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cs-CZ" sz="2400" spc="-1" strike="noStrike">
                <a:solidFill>
                  <a:srgbClr val="ffffff"/>
                </a:solidFill>
                <a:latin typeface="Times New Roman"/>
              </a:rPr>
              <a:t>Co ? , Proč ? , Kde ? , Kdy ? , Za kolik ?  S kým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4) Zjištění souladu projektového zámě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spcBef>
                <a:spcPts val="799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s místními a regionálními koncepcem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4360" y="162864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5)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Uvědomění si svých možností a  limi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finanční (kofinancování, dluhová služba,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chopnost získat úvě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administrativní (právní subjektivita, realizač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ým, manažer projektu, kdo projekt připraví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stav připravenosti projektu ( času na příprav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hledání partner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dlouhodobá udržitelnost výsledků projek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3"/>
          <p:cNvSpPr/>
          <p:nvPr/>
        </p:nvSpPr>
        <p:spPr>
          <a:xfrm>
            <a:off x="539640" y="1125360"/>
            <a:ext cx="8153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457200" y="228600"/>
            <a:ext cx="836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Plánování přípravy projektu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4360" y="141264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Times New Roman"/>
              </a:rPr>
              <a:t>Osnov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1) Popis situace a zdůvodně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2) Cí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3) Přehled aktéru projektu (řešitelé i cílové skupi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4) Aktivity vedoucí k cíli a způsob řešení aktiv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5) Finanční a ekonomické aspek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6) Výstupy – výsledky – dopa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7) Harmon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8) Rizika a jejich elimina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7"/>
          <p:cNvSpPr/>
          <p:nvPr/>
        </p:nvSpPr>
        <p:spPr>
          <a:xfrm>
            <a:off x="539640" y="1197000"/>
            <a:ext cx="8153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468360" y="404640"/>
            <a:ext cx="836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Tvorba projektové fiche</a:t>
            </a:r>
            <a:r>
              <a:rPr b="1" i="1" lang="cs-CZ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685800" y="609480"/>
          <a:ext cx="7772400" cy="574992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loupec 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loupec 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loupec 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objektivně ověřitelné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ukazatele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rizika/předpoklady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elkový cí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ěřený čí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vedou ke splnění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Účel /zámě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ěřený čí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 předpokládající c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vedou ke splnění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Výstup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ěřené čí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 předpokládající c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vedou ke splnění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ktivity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ostředky (vstupy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za předpokladu, ž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ředběžné podmínk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okud jsou splněny předběžné podmínky, lze zahájit realizaci aktivit projektu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2" name="Line 442"/>
          <p:cNvSpPr/>
          <p:nvPr/>
        </p:nvSpPr>
        <p:spPr>
          <a:xfrm flipH="1" flipV="1">
            <a:off x="1835280" y="4581000"/>
            <a:ext cx="417672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Line 443"/>
          <p:cNvSpPr/>
          <p:nvPr/>
        </p:nvSpPr>
        <p:spPr>
          <a:xfrm>
            <a:off x="1908000" y="4581360"/>
            <a:ext cx="165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Line 444"/>
          <p:cNvSpPr/>
          <p:nvPr/>
        </p:nvSpPr>
        <p:spPr>
          <a:xfrm>
            <a:off x="5076720" y="4508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Line 445"/>
          <p:cNvSpPr/>
          <p:nvPr/>
        </p:nvSpPr>
        <p:spPr>
          <a:xfrm flipH="1" flipV="1">
            <a:off x="1692360" y="3715920"/>
            <a:ext cx="424800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Line 446"/>
          <p:cNvSpPr/>
          <p:nvPr/>
        </p:nvSpPr>
        <p:spPr>
          <a:xfrm flipV="1">
            <a:off x="1763640" y="3645000"/>
            <a:ext cx="158436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Line 447"/>
          <p:cNvSpPr/>
          <p:nvPr/>
        </p:nvSpPr>
        <p:spPr>
          <a:xfrm>
            <a:off x="4643280" y="3645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Line 448"/>
          <p:cNvSpPr/>
          <p:nvPr/>
        </p:nvSpPr>
        <p:spPr>
          <a:xfrm flipH="1" flipV="1">
            <a:off x="1979640" y="2781000"/>
            <a:ext cx="396072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Line 449"/>
          <p:cNvSpPr/>
          <p:nvPr/>
        </p:nvSpPr>
        <p:spPr>
          <a:xfrm>
            <a:off x="2124000" y="278136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Line 450"/>
          <p:cNvSpPr/>
          <p:nvPr/>
        </p:nvSpPr>
        <p:spPr>
          <a:xfrm>
            <a:off x="4427640" y="278136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Line 451"/>
          <p:cNvSpPr/>
          <p:nvPr/>
        </p:nvSpPr>
        <p:spPr>
          <a:xfrm flipH="1" flipV="1">
            <a:off x="1834920" y="1773000"/>
            <a:ext cx="410508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Line 452"/>
          <p:cNvSpPr/>
          <p:nvPr/>
        </p:nvSpPr>
        <p:spPr>
          <a:xfrm flipV="1">
            <a:off x="1908000" y="1699920"/>
            <a:ext cx="1368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11280" y="2133720"/>
            <a:ext cx="7772400" cy="46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jek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otace, granty, příspěvk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yhledávání projektových té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vyšování hodnoty projek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lánování přípravy projek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vorba projektového zámě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nalýza rizi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Řízení projektu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Příprava a realizace dotovaných projektů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6"/>
          <p:cNvSpPr/>
          <p:nvPr/>
        </p:nvSpPr>
        <p:spPr>
          <a:xfrm>
            <a:off x="539640" y="1989000"/>
            <a:ext cx="8153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Line 2"/>
          <p:cNvSpPr/>
          <p:nvPr/>
        </p:nvSpPr>
        <p:spPr>
          <a:xfrm>
            <a:off x="539640" y="1125360"/>
            <a:ext cx="8153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468360" y="333360"/>
            <a:ext cx="836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nalýza rizik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468360" y="1231920"/>
            <a:ext cx="828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Stanovení a ocenění rizi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ři oceňování rizik posuzujeme důsledek možného poškození a také pravděpodobnost, se kterou může dojít k poškození. Pro každou identifikovanou nebezpečnou situaci stanovíme nejzávažnější reálně možné poškození pomocí čtyř stupňů udávajících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závažnost důsledk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68360" y="3889440"/>
          <a:ext cx="8207280" cy="2970000"/>
        </p:xfrm>
        <a:graphic>
          <a:graphicData uri="http://schemas.openxmlformats.org/drawingml/2006/table">
            <a:tbl>
              <a:tblPr/>
              <a:tblGrid>
                <a:gridCol w="4181400"/>
                <a:gridCol w="402588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upeň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ůslede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Zanedbateln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ýznamn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ritick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atastrofick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468360" y="0"/>
          <a:ext cx="8280360" cy="4359240"/>
        </p:xfrm>
        <a:graphic>
          <a:graphicData uri="http://schemas.openxmlformats.org/drawingml/2006/table">
            <a:tbl>
              <a:tblPr/>
              <a:tblGrid>
                <a:gridCol w="982440"/>
                <a:gridCol w="2159280"/>
                <a:gridCol w="3193920"/>
                <a:gridCol w="19447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upeň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avděpodobnos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rekvence vzniku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Časpůsobení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álo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avděpodobné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esetkal jsem se s tímto případem, ale vím, že k němu může dojít; prakticky se výskyt událostí za dobu života systému blíží 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elmi malé ohrožení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avděpodobné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ev vznikne někdy během života systému, znám obdobné případy; jedná se spíše o náhodný výsky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lé ohrožení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elmi pravděpodobné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 poranění při sledování nebezpečných událostí již došlo; jedná se o časté ohrožení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Časté ohrožení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ysoce prevděpodobné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 poranění při sledování situací dochází často; je pravděpodobný opakovaný výskyt událostí, nepřetržité ohrožení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epřetržité ohrožení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Rectangle 135"/>
          <p:cNvSpPr/>
          <p:nvPr/>
        </p:nvSpPr>
        <p:spPr>
          <a:xfrm>
            <a:off x="0" y="4764600"/>
            <a:ext cx="939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ýsledná hodnota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rizika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, je dána součinem příslušné hodnoty závažnosti a pravděpodobnosti.   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R= Z x P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     (riziko = závažnost x pravděpodobnos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Uvedený postup umožňuje získat přehled o  závažnosti jednotlivých identifikovaných rizik, což je důležité především pro stanovení priorit při přijímání bezpečnostních opatření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imes New Roman"/>
              </a:rPr>
              <a:t>- Věcné řízen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imes New Roman"/>
              </a:rPr>
              <a:t>- Finanční řízen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imes New Roman"/>
              </a:rPr>
              <a:t>- Administrativní řízení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028"/>
          <p:cNvSpPr/>
          <p:nvPr/>
        </p:nvSpPr>
        <p:spPr>
          <a:xfrm>
            <a:off x="1187280" y="333360"/>
            <a:ext cx="665496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333333"/>
                </a:solidFill>
                <a:latin typeface="Times New Roman"/>
              </a:rPr>
              <a:t>Řízení projektu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Line 2"/>
          <p:cNvSpPr/>
          <p:nvPr/>
        </p:nvSpPr>
        <p:spPr>
          <a:xfrm>
            <a:off x="611280" y="1557360"/>
            <a:ext cx="815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-226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) Podpis Dohod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-226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smluvní podmínk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54200" indent="-150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ff"/>
                </a:solidFill>
                <a:latin typeface="Times New Roman"/>
              </a:rPr>
              <a:t>časový a finanční plán realizace projektu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54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90320" indent="-188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úvěrová smlou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54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90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90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54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90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-22608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1187280" y="333360"/>
            <a:ext cx="66549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333333"/>
                </a:solidFill>
                <a:latin typeface="Times New Roman"/>
              </a:rPr>
              <a:t>Řízení projektu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Line 2"/>
          <p:cNvSpPr/>
          <p:nvPr/>
        </p:nvSpPr>
        <p:spPr>
          <a:xfrm>
            <a:off x="611280" y="1557360"/>
            <a:ext cx="815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85440" y="15998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2) Výběrové řízení na dodavate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formální přípr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- realiza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- závěrečná zprá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- dodavatelská smlou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1028"/>
          <p:cNvSpPr/>
          <p:nvPr/>
        </p:nvSpPr>
        <p:spPr>
          <a:xfrm>
            <a:off x="1187280" y="333360"/>
            <a:ext cx="6654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333333"/>
                </a:solidFill>
                <a:latin typeface="Times New Roman"/>
              </a:rPr>
              <a:t>Řízení projektu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Line 2"/>
          <p:cNvSpPr/>
          <p:nvPr/>
        </p:nvSpPr>
        <p:spPr>
          <a:xfrm>
            <a:off x="611280" y="1557360"/>
            <a:ext cx="815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-360" y="1599840"/>
            <a:ext cx="8893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3) Hlášení o změná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4) Ukončení projek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prokazatelné uzavření všech aktivit projektu v souladu   se smlouvou o dotaci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závěrečná zpráva o projekt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žádost o konečnou platbu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1028"/>
          <p:cNvSpPr/>
          <p:nvPr/>
        </p:nvSpPr>
        <p:spPr>
          <a:xfrm>
            <a:off x="1187280" y="333360"/>
            <a:ext cx="6654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333333"/>
                </a:solidFill>
                <a:latin typeface="Times New Roman"/>
              </a:rPr>
              <a:t>Řízení projektu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Line 2"/>
          <p:cNvSpPr/>
          <p:nvPr/>
        </p:nvSpPr>
        <p:spPr>
          <a:xfrm>
            <a:off x="611280" y="1557360"/>
            <a:ext cx="815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alizace projekt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3.  Každodenní řízení projekt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Co se skrývá pod každodenním řízení projekt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Zvládání termínů a časového postupu projektu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Řízení rozpočtu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Upravování projektu ve vztahu k vývoji potřeb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Z výše uvedeného plyne nutnost řízení změ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Řízení rizik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Komunikace o projektu pro zachování zájmu nositelů zájmů (řídící rady a výbory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nterní komunikace projektového tým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ěření výkonů, kvalit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Nakupování externích služeb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dokumentace, psaní průběžných zpráv o realizaci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SW prostředky (MS Project, Excel atd.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Úspěšný žadat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ezanedbat přípravnou fázi projektu (č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esně zformulovat svůj projektový zámě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acovat v týmu při přípravě i při real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eznámit se s podmínkami progr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ýt realista při tvorbě rozpoč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omunikovat s administrátorem progr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ontrolovat externího zpracovate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 případě úspěchu číst a dodržovat smlouv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podmínky apod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ý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usím znát všechny směrnice a nařízení 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jekt musím psát v angličtin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 projektu rozhoduje Brus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Čím delší „slohové cvičení“ tím lé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a to nikdo nepřijde – papír snese všech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apsat projekt je tak těžké, že to normální smrtelník nemůže zvládnout sá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ebudu obtěžovat úředníky s otázkami, ještě si na mě zasedn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 projektech už je dopředu rozhodnu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324000" y="765000"/>
            <a:ext cx="882000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cs-CZ" sz="4000" spc="-1" strike="noStrike">
                <a:solidFill>
                  <a:srgbClr val="ffffff"/>
                </a:solidFill>
                <a:latin typeface="Times New Roman"/>
              </a:rPr>
              <a:t>Děkuji Vám za pozornos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Times New Roman"/>
              </a:rPr>
              <a:t>Mgr. Michal Jarolímek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Jihočeská univerzita v Českých Budějovicí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e-mail: novnos@tiscali.c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Tel: 77629628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917280" cy="612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"/>
          <p:cNvPicPr/>
          <p:nvPr/>
        </p:nvPicPr>
        <p:blipFill>
          <a:blip r:embed="rId2"/>
          <a:stretch/>
        </p:blipFill>
        <p:spPr>
          <a:xfrm>
            <a:off x="7315200" y="152280"/>
            <a:ext cx="1604880" cy="649440"/>
          </a:xfrm>
          <a:prstGeom prst="rect">
            <a:avLst/>
          </a:prstGeom>
          <a:ln w="0">
            <a:noFill/>
          </a:ln>
        </p:spPr>
      </p:pic>
      <p:sp>
        <p:nvSpPr>
          <p:cNvPr id="140" name="Obdélník 4"/>
          <p:cNvSpPr/>
          <p:nvPr/>
        </p:nvSpPr>
        <p:spPr>
          <a:xfrm>
            <a:off x="1258920" y="260280"/>
            <a:ext cx="597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Evropský zemědělský fond pro rozvoj venkova: Evropa investuje do venkovských oblast</a:t>
            </a:r>
            <a:r>
              <a:rPr b="1" lang="cs-CZ" sz="1000" spc="-1" strike="noStrike">
                <a:solidFill>
                  <a:srgbClr val="ffffff"/>
                </a:solidFill>
                <a:latin typeface="Verdana"/>
                <a:ea typeface="Times New Roman"/>
              </a:rPr>
              <a:t>í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Projekt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95280" y="1267920"/>
            <a:ext cx="8424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dinečný proces, sestávající z řady koordinovaných a řízených činností s daty zahájení a ukončení, prováděný pro dosažení předem stanoveného cíle, který vyhovuje specifickým požadavkům, včetně omezení daných časem, náklady a zdroj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ffffff"/>
                </a:solidFill>
                <a:latin typeface="Times New Roman"/>
              </a:rPr>
              <a:t>ISO 1000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Projekt je dočasné úsilí s cílem vytvořit unikátní produkt nebo službu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Times New Roman"/>
              </a:rPr>
              <a:t>(Project Management Body of Knowledge)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Vlastnosti projektu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8920" y="1980720"/>
            <a:ext cx="87138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Dočasnost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rojektu zde znamená, že každý projekt má svůj časový rámec, tj. má předem určen svůj začátek a konec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Unikátnost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ak znamená, že projekt je více méně neopakovatelný. Mohou se sice opakovat typové projekty, vždy se však budou lišit časem, výsledkem, rozpočtem a zdroj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Unikátnost a dočasnost tak odlišují projekt od institucionálního procesu, který se provádí opakovaně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Vlastnosti projekt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8920" y="1981080"/>
            <a:ext cx="87138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cíl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- produkt / službu tj. jeho funkčnost/ parametry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valitu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s jakou má být cíl realizován (tj. kvantifikované parametry výsledného produktu/služby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droj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za pomocí kterých bude cíl naplně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čas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ve kterém je třeba odevzdat hotový produkt/službu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náklad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- tj. rozpočet, který bude čerpá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rizik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pro přípravu postupů, jak se jim vyhnout nebo co dělat, pokud nastanou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omeze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která projekt budou ovlivňova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Projektové fáz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9280" y="980640"/>
            <a:ext cx="878544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Definice projektového návrhu (záměru) a jeho konfront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s možnostmi budoucího realizátora</a:t>
            </a: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formulaci základních záměrů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hodnocení přínosů a dopadů realizace projektu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odhady nákladů a času potřebného na vlastní realizaci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ředběžné analýzy rizik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Sestavení projektu</a:t>
            </a:r>
            <a:r>
              <a:rPr b="1" lang="cs-CZ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pecifikace cílů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identifikace zdrojů (personálních, materiálních, finančních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nastavení realistického časového rám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pecifikace propočtu nákladů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řesnější definice rizik a předpokladů včetně návrhu omezení jejich dopadů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říprava detailních plánů na realizaci projekt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Projektové fáz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60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Realizace a administrativní ukončení projekt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řízení prací a subdodávek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kontrola postupu podle časového plánu a rozpočtu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řízení komunikace uvnitř projektového týmu a komunikace s poskytovatelem dotac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řízení změ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kontrola kvality a účinnosti dosažení jednotlivých dílčích cílů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řízení rizi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administrativní a finanční ukončení dotované části projekt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Provoz a udržitelnost výsledků projektu</a:t>
            </a:r>
            <a:r>
              <a:rPr b="1" lang="cs-CZ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dochází k začlenění předmětu projektu do existujících organizačních systémů uživatele projekt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robíhá hodnocení technologických, sociálních a ekonomických dopadů realizovaného projektu v rámci předpokladů daných v návrhu projek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 zpracována zpětná vazba pro plánování dalších projektů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robíhá průběžné vyhodnocení projektu (například na roční báz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Dotace, granty, podp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á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skytovat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Žadat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říjem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živat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6"/>
          <p:cNvSpPr/>
          <p:nvPr/>
        </p:nvSpPr>
        <p:spPr>
          <a:xfrm>
            <a:off x="539640" y="1557360"/>
            <a:ext cx="8153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Šipka doprava 4"/>
          <p:cNvSpPr/>
          <p:nvPr/>
        </p:nvSpPr>
        <p:spPr>
          <a:xfrm rot="2541600">
            <a:off x="1847520" y="2398680"/>
            <a:ext cx="28728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dddd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Šipka doprava 5"/>
          <p:cNvSpPr/>
          <p:nvPr/>
        </p:nvSpPr>
        <p:spPr>
          <a:xfrm rot="2131800">
            <a:off x="4412880" y="3053880"/>
            <a:ext cx="287280" cy="287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dddd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Šipka doprava 6"/>
          <p:cNvSpPr/>
          <p:nvPr/>
        </p:nvSpPr>
        <p:spPr>
          <a:xfrm rot="1900200">
            <a:off x="6065640" y="3627360"/>
            <a:ext cx="288720" cy="287280"/>
          </a:xfrm>
          <a:prstGeom prst="rightArrow">
            <a:avLst>
              <a:gd name="adj1" fmla="val 50000"/>
              <a:gd name="adj2" fmla="val 50251"/>
            </a:avLst>
          </a:prstGeom>
          <a:solidFill>
            <a:srgbClr val="ddddd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Šipka dolů 8"/>
          <p:cNvSpPr/>
          <p:nvPr/>
        </p:nvSpPr>
        <p:spPr>
          <a:xfrm rot="20413800">
            <a:off x="3419280" y="3645000"/>
            <a:ext cx="288720" cy="1296720"/>
          </a:xfrm>
          <a:prstGeom prst="downArrow">
            <a:avLst>
              <a:gd name="adj1" fmla="val 50000"/>
              <a:gd name="adj2" fmla="val 49903"/>
            </a:avLst>
          </a:prstGeom>
          <a:solidFill>
            <a:srgbClr val="ddddd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Šipka dolů 9"/>
          <p:cNvSpPr/>
          <p:nvPr/>
        </p:nvSpPr>
        <p:spPr>
          <a:xfrm rot="1617000">
            <a:off x="4716360" y="3716280"/>
            <a:ext cx="287280" cy="1297080"/>
          </a:xfrm>
          <a:prstGeom prst="downArrow">
            <a:avLst>
              <a:gd name="adj1" fmla="val 50000"/>
              <a:gd name="adj2" fmla="val 50167"/>
            </a:avLst>
          </a:prstGeom>
          <a:solidFill>
            <a:srgbClr val="ddddd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Šipka dolů 10"/>
          <p:cNvSpPr/>
          <p:nvPr/>
        </p:nvSpPr>
        <p:spPr>
          <a:xfrm rot="3710400">
            <a:off x="5977440" y="4018680"/>
            <a:ext cx="279360" cy="1233360"/>
          </a:xfrm>
          <a:prstGeom prst="downArrow">
            <a:avLst>
              <a:gd name="adj1" fmla="val 50000"/>
              <a:gd name="adj2" fmla="val 50077"/>
            </a:avLst>
          </a:prstGeom>
          <a:solidFill>
            <a:srgbClr val="ddddd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Vyhledávání projektových témat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imes New Roman"/>
              </a:rPr>
              <a:t>Dva přístup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A) Peníze následují vizi 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B) Vize následuje peníz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6"/>
          <p:cNvSpPr/>
          <p:nvPr/>
        </p:nvSpPr>
        <p:spPr>
          <a:xfrm>
            <a:off x="533520" y="1447920"/>
            <a:ext cx="815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7:57:40Z</dcterms:created>
  <dc:creator>sedova</dc:creator>
  <dc:description/>
  <dc:language>en-US</dc:language>
  <cp:lastModifiedBy>michal</cp:lastModifiedBy>
  <dcterms:modified xsi:type="dcterms:W3CDTF">2012-04-25T05:44:56Z</dcterms:modified>
  <cp:revision>58</cp:revision>
  <dc:subject/>
  <dc:title>Prezentace aplikace PowerPoint</dc:title>
</cp:coreProperties>
</file>